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E0F-2E97-45C5-8173-1AF71B8B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D2-362A-47EC-BAE3-EE049E2B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03E3-2EEF-49BC-9819-35058351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FCD34-41EC-43A7-89F7-D5A63B82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A85F0-B73C-4A53-B460-2DFBBF14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80C4-8117-4B68-A293-52147EB1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EA486-16AB-4979-86FC-0E59DC4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F84B1-2B0E-46D8-88AC-C573A2C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FC95B-D4FF-4091-ABFA-A1E6D60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01C27-FE9A-4F7C-8E96-5ED4751F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55A27-160D-4568-8F1F-4E861E41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4FD1F-D9F1-458C-B80E-3BB6D1E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F0E-1DC5-40AE-9ACF-45D56356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42DB0-A06D-466C-8469-33F2B59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C2E6D-3DD5-4577-8088-A19BDE8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0B102-E9E6-464C-BBB2-64F0C5D7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D2588-664D-4D2E-9B92-EFE20DF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AE268-E5EF-4903-AF67-76DC6AA8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B6780-4EEE-4099-AA9A-B8C4C8B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73009-18CC-45A8-AA23-978E6D3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B731C-DAAD-4CBD-83A8-38BC49A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214D9-5218-430E-97E1-E8EE132F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95C99-1AA7-4D81-9527-0890268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8FD-4254-42A8-914F-2ED2739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6549-325F-4EF9-B46E-9FCFD200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B480D-C869-4D73-AE4E-2E07A5C2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0297-C272-4FFD-97F6-3C607563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5F16A-2BF2-46A4-BC01-D8B23C85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A23D-E682-4EF9-8DFB-E7286D6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05E7-81EB-4788-A691-2BFAA82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CDFCE-7A6B-4354-A232-9F52D1CB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705D-0BE2-4507-A510-470ED9F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F492A-F75F-447A-92A7-7FE2744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60B4F-15E2-4BA2-AD0B-49D0F5E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8FC4-17CA-4C05-B063-ED113529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ECE68-93D8-48B9-B245-E2253EB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A4FB-302F-4E8D-A615-C0A3F001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EF9A5-FC2B-44C3-83B0-9C00CD9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E03DD-A4EB-4AAB-8499-773AD24E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716CA-ED04-495C-9212-DACD6E1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09606-867C-4BDC-A7B9-F70055D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657AF-FCBE-41D4-ACB5-82F381F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39F7F-52C0-4FC5-8644-708BE97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62A05-0B01-4C16-82F0-39E23BD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AF6D-F4E4-4A21-85C7-778A210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1DF8-C77A-4632-AD3B-BC119C0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A6630-1FFF-4DE5-81CC-11CE796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2E114-2AF6-49DA-8B25-A0365C5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C8448-4DAF-429F-89F2-9B251E5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C8839-CF96-42C4-8369-88AE9B5F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5AD88-9DBF-42C3-A354-149D95E8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8B2F9-08EF-4D3E-8C5B-05E5283B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BD470-9AEC-4587-B2C6-02C3762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C258A-7C6E-488B-B274-3ED05771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EF011-964A-49CD-9B4D-B0C3906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B7528-30B9-4B40-BFAA-2250AC30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ADB9-30B4-422C-BEE0-9E0F10D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276E5-BAB5-4B52-BFB3-7600F6F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B02AF-C27F-4849-AC59-8D25A6D2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20278-70D0-4E1D-A5D1-D3BE9AD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6AA59-8AC0-43FD-9FFC-598E75A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DF063-C41C-409D-804A-89B9555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54883-320E-4F03-B7DE-1B8915B2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75436-BBB9-441B-82DA-E54F492B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4AD20-31C5-4D82-8D4A-8EB64DEA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702D7-5486-4F8D-A263-EAD3E6B0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41653-AA86-4E22-8429-6C37A49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6AE-34EA-4DE1-880C-C64AD9C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C240C-C664-412F-A893-0EE1B7D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6D3F5-DD52-48AD-9D5F-1B119B8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56B71-0F98-44C4-A852-5712864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BF280-82C5-4790-B8DA-660152CD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B186B-63E3-4A9F-8241-3C4F4F5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F2330-BA38-4257-9B79-5AAA4D1C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C3CBC-C834-4EA4-BB3B-82C2C7AD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F43CC-F387-4ECD-B863-4D12A218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2F107-C906-48B2-9C97-8DA36371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D656-FA79-4AE2-B54F-DE966C94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83B2-2B48-455D-A3E2-CBAE9D7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3272-1EEC-44EB-9025-E2F87F0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92B-53E9-4400-8FE3-8216B79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598E-5285-49D7-9A3E-EC89E57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398-4147-405C-89F5-14D7E424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406-E98C-41D5-A8A3-48D5C02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349-71B1-41C8-9A21-28AB3D8A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E841-8518-43DD-9AB8-84BF08AE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93AF-8EA3-4C4D-BA6C-50D11D67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9D19-B788-4A9E-AE17-1C89CB8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7B34-B117-4EB9-9E44-94A04AD7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742D-2399-4750-8284-BABC2E70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31B7-7728-4581-B34F-B90CBE8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F21-1663-4515-8C35-DEFC2FE7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3245-CC26-4C93-A0DB-E2ABFD35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443E-30AB-4645-BDC0-61F806E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8D30-8D50-4B5A-A444-70D8620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AFCB-CC12-4B70-B3E8-81978E6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9979-F611-4779-B259-C9BCD87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BBD9-DD08-4B82-AE74-AC255F04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3311-065D-47B8-97CB-0800D425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B3A9-0D4E-4907-9288-447300FC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F7F2-12CB-42A5-966E-AD3340E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9CCA-56A7-43F7-BC63-07FA72F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B5B-5E4E-4AF0-A5C5-275E15B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5759-270E-4DFE-A6A5-6F460F05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5865-9AE1-4DBF-B1C5-DF54604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E5C3-F33D-4479-9B26-1932205E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76D9-9E5F-471C-8B7F-2B5B8A9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A4A8-407E-4CEB-BBDA-5F6B659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1A3E-63E2-483D-8917-193D063C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813E-65B2-4929-AEFA-722BFEE4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F83D-A60B-45BD-A77F-62652E6C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DA7F-F4BD-4CD6-994E-5814B1AF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463C-B265-4AA8-B5B3-9B6DB0E8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9C7-E1E4-4A17-9E84-3570957F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B930-1A8E-4EC6-910B-E7F3628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BE04-4EF2-470D-B521-7570DB7D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A5F8-E6E5-403C-8930-937EEBAC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3DF3-1093-4E0C-8043-3779D3CA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BF9B-1691-4627-BE9B-1276726C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AF6A-02C0-4C99-A864-6595312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58FA-17D4-4800-958B-B0831B6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A780-15FA-465D-B020-8AC7429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9213-488C-4D7F-93CC-A52B2C9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C631-2C04-4F3A-BE07-15C4238C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3C6-F436-4541-839E-27FB9C31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C86C-C1BD-478B-839A-F917BA8C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48DB0-B11E-4E22-B033-C7EF333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68EF7-5452-4351-8F77-F3CD3558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C69D5-30E5-4E53-97C7-FDC3A96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31095-7159-476B-9D0A-324DD84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0EB3A-2EB2-463C-BC1E-F940D71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4DE74-E671-4044-A7C6-89E9538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B0A74-88A6-4B92-A598-1FBEE6B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A0079-C8FA-4083-B7AE-12F3A35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F7EF3-BC9B-40EF-B68B-2B0DCA9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EBD-A0DC-411F-9A4A-85CBED8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E5AC0-D00D-40E0-BF5D-E405DD4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2E28E-9A09-43FB-BFAD-41F82FF2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6499B-6867-4711-BFCE-C21927B6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4912-5B0B-4324-939F-1C9D10A9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6A0A7-B8D6-46C6-BD5B-DFB267F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B957-02B6-4468-8A31-742CC338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0FB2-A4A6-4F67-A90B-C9BD883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4D6C-4531-4DAD-9F8C-7764ECEA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A6BC-DD4E-46A7-95F8-EFB6C5D1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B73C-F234-410A-89A6-2A4914F9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A9E-BE97-487F-9B2E-FE4BD35A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F554-6E22-4FDE-9388-AEC9186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AC2F7-38AD-49D9-B7AD-B6E4C82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2DF3-117D-472A-9CE1-FC4BC437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482B-AB70-4F94-83F1-93212213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66B8-9BFC-4EAD-82EE-34F0EA8D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CAE3-2F0D-462C-A2B4-DB31668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637A-F004-421F-AC4C-ABF49BC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72368-BC93-46E5-944C-C25C685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03FA-C1D5-4BDB-BCC3-407A49A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6FDAB-72AA-40D7-B389-84D44CAA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45B-983D-4CC9-9EF1-8434460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D4FD-CFD1-457E-9636-9A3EEF3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CC58-928F-4598-8937-1C26C6C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FD02-347A-4368-B173-94BEB90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E386-2F7F-499C-A5BF-771EFFA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ABDB-1009-4A40-AB1D-D487E353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152E2-C633-4BB1-9825-91864920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A079-EB2F-4ED6-A288-2B706A43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AA493-09B8-4FE4-96E8-A9DB053A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1021-239A-4423-9717-6B29069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AC67-DAFA-4321-B0F2-90D7BDB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3476-4ABA-4A8C-AA96-A9572349A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5AE-540D-49BE-9497-46D8AD718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3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C4E-2378-4DDE-84EF-0463657817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0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4EF4-0EAC-4E0D-AB4D-04024E51B2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8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8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729F-8708-4BC6-9D3B-6B3DC6C15E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286C-FFC3-4CAA-AF17-FF5348B035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BD07-BD7D-4F09-BCEA-FA7BB7C72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861D-A205-461A-9644-F49C19F59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2DA-89FB-4430-98CE-B5316F2CA3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C36-B27F-4E99-8B2F-24574D4E2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BE7-C371-4574-B4EA-7F77C964C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DFA-DB81-4472-AF40-B10A4257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EF41-2ECC-4DE2-9755-15BF6E71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C1B7-3673-408A-899A-AFC0EA11E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Monotype Corsiva"/>
              </a:rPr>
              <a:t>                      </a:t>
            </a:r>
            <a:r>
              <a:rPr b="0" lang="en-US" sz="4400" spc="-1" strike="noStrike">
                <a:solidFill>
                  <a:srgbClr val="cc00ff"/>
                </a:solidFill>
                <a:latin typeface="Monotype Corsiva"/>
              </a:rPr>
              <a:t>Народы  Май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971640" y="1384200"/>
            <a:ext cx="6048360" cy="454356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37120" y="3933360"/>
            <a:ext cx="23065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Носкова Юли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232 групп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да исчез народ Май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2"/>
          <a:stretch/>
        </p:blipFill>
        <p:spPr>
          <a:xfrm>
            <a:off x="1187280" y="2097000"/>
            <a:ext cx="6697800" cy="392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Назовите местонахождение народов Майя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веро-запад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го-запад Юж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веро-восток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го-восток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08360" cy="453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Какие календари изобрели Майя?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е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upimg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5524560" cy="3994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Что представляла собой письменность Майя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истему из словесных и слоговых зна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ероглиф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ириллиц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5184720" cy="4047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Расположите периоды в правильном порядке и охарактеризуйте их?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нний доклассический период(около 2000-900 года до н. 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здний доклассический период (около 400 годов до н. э. — 250 года 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здний классический период (около 600—900 года 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нний классический период (около 250—600 года н. э.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редний доклассический период (около 900—400 года до 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новные гипотезы исчезновения народов Майя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ологическая гипот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экологическая гипот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4197240" y="1600200"/>
            <a:ext cx="4019760" cy="449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уществуют ли сейчас народы Майя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83" name="" descr="Tunkan Maia Yucatan.jpg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3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7:26Z</dcterms:created>
  <dc:creator>07100</dc:creator>
  <dc:description/>
  <dc:language>en-US</dc:language>
  <cp:lastModifiedBy>07100</cp:lastModifiedBy>
  <dcterms:modified xsi:type="dcterms:W3CDTF">2009-11-26T13:37:27Z</dcterms:modified>
  <cp:revision>8</cp:revision>
  <dc:subject/>
  <dc:title>                      Народы  Майя</dc:title>
</cp:coreProperties>
</file>